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3D2DA-5BB5-401B-813E-5B3EA4A00C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33F10-9D80-469F-B417-0E242C0C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3BC2-0FFC-4836-8498-07ADDF1E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04B4-C146-4672-9870-5BACDB3499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FEA0-F5DE-4289-BBE5-95BBECBF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0C9AD-C74D-4D38-8294-E2998FF9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549A-F980-4A5C-9BE3-1E19663A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1C6A-97F4-42B9-9332-8390D437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7B79-E8D7-4F1E-8385-ACE9965A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F5C4-68C7-4125-9637-D79FE740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08822-9208-43EA-B0F7-1B5E05AD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F81D-C90B-43B8-BC04-83E0A4BF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D378-57A9-487E-9746-8A42EED44E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diagram in exercise 1 and explain how hydro power is p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read the text and draw four simple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whether your diagrams were correct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17Z</dcterms:modified>
  <cp:revision>29</cp:revision>
  <dc:subject/>
  <dc:title>  </dc:title>
</cp:coreProperties>
</file>